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CC87-F025-4346-9B19-7E3379042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CE88-9B4F-4C7F-A386-0D63F8FBCD5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EFA4-DDD1-4C09-8CE3-D91C9C61DABB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size is determined in the user’s browser settings although points can still be used to define the size of the t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ep in mind that using point size doesn’t guarantee that the text will display at that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6FF5-EB9C-4074-A027-9E931B111AC8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F81D-9A4F-41E0-8798-AE812484ED41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050C-55B3-4BC9-9312-40BCD6A1801C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42E-3FCA-44F2-8F97-539A24B2FBBF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F0A4-9CC7-43A3-91EF-D5F3574EBB99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ive technologies refer to software and devices used to help people with disabilities use computers and access web page content. For example, assistive technology exists that reads the contents of a web page to users who are bl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CB1D-1B3F-4F42-BAFF-9346588A169C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attribute defines type of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8CE-2479-452F-A11A-4DF88DE4945E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ADF4-BBCB-42AA-8514-7F4C3D8E540D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D0A-5EBF-4C62-A290-1DC424570A72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1D2-37CE-474A-8EE7-1B9E07A3526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28E5-987B-4160-AFA9-DAA524089594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430E-3822-42B9-A646-8F60B9AF60A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EE84-939F-4B78-B7C3-63679D2635B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5E2-97FA-4690-8344-D544DF945DD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3CD-53C0-444C-80C7-893234F04730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1F6-C582-4F0B-AC45-639D165EAC1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may be the only thing the reader sees while waiting on a file to downl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E59-193C-4B84-99EF-DE5493787D0C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DB89-DDF9-4817-973F-B230DCB776B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A2D-8DA4-43E7-A136-0D292E12919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, prose-free design allows users to quickly find primary and subheadings without the distraction of lengthy paragraph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59ED-7A88-4501-ACAA-6F2D5134DE3F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F469-5841-4CCE-A8CB-9AB560C700B6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 preferences can be changed by the user’s browser sett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4A36-3020-4436-8E78-B7A55D82BB6D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New Roman is one of the most legible on paper but is difficult to read onsc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45F-BCB7-434E-91BF-DBE58502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7C5-DEE5-480A-8EC2-7E1E55A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EDB-90F5-4D49-ADCA-2E8C4ACC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ADE-53F4-4644-88BC-9EBA7C31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D23-E2AE-4D8E-9C0E-8B27B8DC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8CA-A20D-4E63-8FEC-FF345B29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8913-C804-4BE6-BE5A-B68624F0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E639-86E0-435C-B366-FB53C36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8372-8135-4C88-9CE6-F4F593D6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E1E6-1DB7-4143-A8AD-F6198FD6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0134-29C8-4FE3-A968-FA62E79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079-0C31-4200-B29F-ED7CD30D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1A70-804E-4E23-99E7-C030109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B1CA-D728-422E-AA84-489E55F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914-58C9-4EF6-AB7C-3737A4AD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29B4-44AD-4FE3-8B78-D895977D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A425-1CA4-4A28-B30C-8C78F9A1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0EA-E379-478C-BF65-E4ABC05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161-BDBD-47CB-9AFC-E7AFD4D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78F-52C7-45D7-A292-2415D77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867-D1F3-4E3B-A112-B54F2E8F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2B8-CEFF-4760-866D-7499C85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7B8-E950-403F-BEAB-0A81A2F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D2B-F9D6-47B0-8D8C-E156F4D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DF2A-F175-4171-894C-91CC58FBC9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2810-A93F-4E58-970C-AD4A24BF46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520" y="825480"/>
            <a:ext cx="808992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02F Principles of Goo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Webpage Design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04840" y="46605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279360" y="17784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–Siz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825480" y="1143000"/>
            <a:ext cx="77472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-27936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resolutions and operating systems vary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 point on one machine may display as 14 point on another.</a:t>
            </a:r>
            <a:endParaRPr b="0" lang="en-US" sz="30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-27936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web browsers typically display type that is 2 to 3 points larger than a Macintosh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—Alignment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justified text is the most legible o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web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ft margin is even and predic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gged right margin will not interfere with legi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4560" y="69840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ified text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ommended for use in webpag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hyphe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ered and right justified text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ing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ged left margins make scanning extremely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080" y="-360"/>
            <a:ext cx="8953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 Continued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2760" y="1079280"/>
            <a:ext cx="61088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indents or a blank line to indicate a new para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ragraph tag &lt;p&gt; in html to leave a blank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-breaking spaces (&amp;nbsp) to i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—General Guidelin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itial caps for headlines and head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ntence case for body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aps are difficult to re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ress foreign words or phrases or to list book and periodical tit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mphasize head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overuse a—it will lose the effect of adding emph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t implies a hyper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o users when a link will move them to a page on a different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URL below the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an exit disclai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an interim page warning the user that they are leaving your site and requiring them to click an additional link to leave your s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92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 Continued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634680"/>
            <a:ext cx="8674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s a Gra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banners and navigational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ing text as a graphic for headings, subheadings and body text in case the graphic does not load properly on the viewer’s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tudio_177x84"/>
          <p:cNvPicPr/>
          <p:nvPr/>
        </p:nvPicPr>
        <p:blipFill>
          <a:blip r:embed="rId1"/>
          <a:stretch/>
        </p:blipFill>
        <p:spPr>
          <a:xfrm>
            <a:off x="5410080" y="2819520"/>
            <a:ext cx="2248200" cy="92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rcRect l="-1558" t="0" r="44535" b="23960"/>
          <a:stretch/>
        </p:blipFill>
        <p:spPr>
          <a:xfrm>
            <a:off x="533520" y="25909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V="1">
            <a:off x="2895480" y="3673080"/>
            <a:ext cx="2743200" cy="15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876920" y="4038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xt is really a graphic.  Note that a rollover or gloss provides pop-up text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3809880" y="4876920"/>
            <a:ext cx="1981440" cy="54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dings and Tit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6024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headings that are unique from one another, descriptive and relate to the content they intro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headings in the appropriate HTM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s users get a sense of hierarchy of information on the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helps users of assistive technologies understand the level of importanc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64764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a descriptive, unique, concise, and meaningful title for each webpage in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s display in the browser’s title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s are used by search engines to identify pages and are listed on the result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4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6000" y="927000"/>
            <a:ext cx="44704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a series of related items in a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descriptive heading for the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lists easy to scan and understand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ful labels, effective colors, borders, and whit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first letter and first word in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920" y="876240"/>
            <a:ext cx="43178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ets/Unordered List &lt;ul&gt; for items of equal status or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mportant or most commonly used items at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ed/Ordered List &lt;ol&gt; for items where a particular order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 alphabetically or numer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umbered items at 1 rather than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7840" y="177480"/>
            <a:ext cx="89661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phics on the Web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5240" y="927000"/>
            <a:ext cx="427968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ideo, animation, and audio only when they help convey or support the website’s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organization’s logo in a consistent place on every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44960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mages that add value and increase the clarity of the information on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phics on the Web Continued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images load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everal small images rather than a large single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height and weight pixel dimension attributes in the image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layout of page to continue during download—text will fill in and space will be saved for graphics to “pour” into the reserved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umbnails to preview larger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imple backgroun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text difficult to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olid color backgrounds inst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1100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consid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ntrols so that users can stop, start, play, and adjust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ware that embedded media can make total page file size very large and slow the download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68544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bject or embedded tags to include multimedia elements in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chor tags and href attributes to link to 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binations of anchor and image tags to link to 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sider the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025960" y="5954760"/>
            <a:ext cx="393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219640" y="518472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83560" y="515304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page Design vs. Print Document Desig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2240" y="1058400"/>
            <a:ext cx="818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design principles apply to both webpages and print docum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y a few fundamental principles to every webpage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9760" y="177480"/>
            <a:ext cx="8813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Continued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9264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ive, low bandwidth way to enhance con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izes are smaller than vide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use as much bandwidth as vide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1640" y="838080"/>
            <a:ext cx="44067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when image quality is a top prio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a smaller file size than most video so storage and bandwidth are optimiz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 with audio for additional empha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Continued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78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F form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require special plug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interface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sh becoming dominant animation form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7640" y="761760"/>
            <a:ext cx="4127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video sparing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files tend to be l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quire more storage and slow the download speed of the web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Web Conten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6240" y="838080"/>
            <a:ext cx="424944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cronyms and abbrev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bbreviations sparing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 jarg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familiar wor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first sentences descrip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92640" y="825480"/>
            <a:ext cx="485136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oic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28600"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hn hit the baseball.” rather than “The baseball was hit by John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ize the number of words in sentences and the number of sentences in paragrap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28600">
              <a:spcBef>
                <a:spcPts val="326"/>
              </a:spcBef>
              <a:spcAft>
                <a:spcPts val="3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tence: 20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28600">
              <a:spcBef>
                <a:spcPts val="326"/>
              </a:spcBef>
              <a:spcAft>
                <a:spcPts val="3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graph: 6 sent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bility Issue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63"/>
              </a:spcBef>
              <a:spcAft>
                <a:spcPts val="1063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tion 508 of the Rehabilitation Ac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US government websites must meet the needs of all users including people with dis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17840" y="761760"/>
            <a:ext cx="4826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8% of all users have a disability that makes using a traditional website very difficult or impos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-related, movement-related, hearing-related and learning-related are the most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bility Issues Continued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041120"/>
            <a:ext cx="4019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ext equivalent for non-text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information conveyed in color is also available without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ext only pages that are useful for screen r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81560" y="1085400"/>
            <a:ext cx="44956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quivalent alternatives for multimedia elements that are synchroniz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ext caption or auditory description of the visual track with the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quire style sh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page Design vs. Print Document Desig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335240" y="1827360"/>
            <a:ext cx="7080120" cy="116928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clear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titl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capture the reader’s attention.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Include a tit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the &lt;head&gt; section in case viewers bookmark your page.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219320" y="3886200"/>
            <a:ext cx="7030800" cy="150444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ce a link to the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“home” UR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n at least the main pages of the site. 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connection back to where a page originated.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384120" y="1117440"/>
            <a:ext cx="1000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6480">
                  <a:solidFill>
                    <a:srgbClr val="96969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?</a:t>
            </a:r>
            <a:endParaRPr b="0" lang="en-US" sz="2800" spc="1" strike="noStrike">
              <a:ln w="6480">
                <a:solidFill>
                  <a:srgbClr val="96969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384120" y="321480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6480">
                  <a:solidFill>
                    <a:srgbClr val="96969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RE?</a:t>
            </a:r>
            <a:endParaRPr b="0" lang="en-US" sz="2800" spc="1" strike="noStrike">
              <a:ln w="6480">
                <a:solidFill>
                  <a:srgbClr val="96969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0320" y="53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Page Layou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01520"/>
            <a:ext cx="44956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he most important items or information near the top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consistent in all design elements used 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l pa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fonts, colors, graphic size and location, alignment, and backgr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78240" y="999720"/>
            <a:ext cx="46483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hite space to divide the page into “chunks” of information that readers can quickly sc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978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me/Index Pag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3240" y="1368360"/>
            <a:ext cx="81421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positive first impression of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the purpose of the web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company’s logo on the page and use it in a consistent location throughout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navigational links or  menus to provide viewers with the links they will need to navigate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me/Index P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inued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008000"/>
            <a:ext cx="8447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one screen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amount of prose text on home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ll major options on hom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access to home page from any other page on th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unce changes to the website on hom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360" y="402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Colo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3600" y="1457280"/>
            <a:ext cx="8331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63"/>
              </a:spcBef>
              <a:spcAft>
                <a:spcPts val="1063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 contrasting colors for background and tex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ext on dark background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text on light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es rea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8978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777240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cading Styl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nsure consistency throughout the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edit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settings of the style once to update all documents using that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styles in word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ite and the target audience when selec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43000" y="4610160"/>
            <a:ext cx="20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face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356000" y="4610160"/>
            <a:ext cx="32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lengt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s a graph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315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 Issues—Typefac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2000" y="1318680"/>
            <a:ext cx="789156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ypefaces designed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-screen 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s serif typefaces are easier to read on computer scre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“font-family” property in styles to specify type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46:23Z</dcterms:created>
  <dc:creator>Lee O'Neal</dc:creator>
  <dc:description/>
  <dc:language>en-US</dc:language>
  <cp:lastModifiedBy>ycsadmin</cp:lastModifiedBy>
  <dcterms:modified xsi:type="dcterms:W3CDTF">2011-07-01T19:34:03Z</dcterms:modified>
  <cp:revision>123</cp:revision>
  <dc:subject/>
  <dc:title>Web Site Development  Competency 8 Create a multimedia web site.</dc:title>
</cp:coreProperties>
</file>